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A0E-A565-4F19-A335-80C69E10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557-C108-4C57-8468-F471AE63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C8A-38CA-45BE-993F-34CCBCA1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8AD-95A0-4985-A086-C862C022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912-CB28-420B-B9E8-B40D2E9D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97C-F229-46FB-92CF-8112827A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4B0-D456-4136-808B-F9571F9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79A-5847-48DA-8917-A1F79F7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EAF-92FE-4E3A-82D5-B9597D67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B12-8109-4B55-A30A-433AE850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DDD-95EA-4D31-911B-31CC98F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4C1-2C0D-42EB-89A1-49DBF603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A447-0EDD-4537-A618-8C4FCA05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32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cience Safety</a:t>
            </a:r>
            <a:endParaRPr b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labsafety"/>
          <p:cNvPicPr/>
          <p:nvPr/>
        </p:nvPicPr>
        <p:blipFill>
          <a:blip r:embed="rId1"/>
          <a:stretch/>
        </p:blipFill>
        <p:spPr>
          <a:xfrm>
            <a:off x="2743200" y="3809880"/>
            <a:ext cx="3251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763120" cy="49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generally used as a warning of danger, particularly in regard to poisonous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way from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39621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49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s can burn and destroy body tissues on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p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off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26744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 Safe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wise to always treat unknown materials as very hazardous un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ositiv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lways reme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a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fety Contrac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udent and a parent or guardian will sign a safety con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thout a signed contract on file will not be allowed to participate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fety Contrac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whom to contact for help in case of an emergenc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Briggs in room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Ha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1 (It had better be SERIOU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eaking the Contrac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case-by-case basis, breaking the contract may result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al from the lab activity with alternate assignment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isciplinary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7848720" cy="33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fety is the Responsibility of</a:t>
            </a: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EVERYONE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Responsibilitie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safe learning activities         (Sorry we’re NOT blowing anything up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ppropriate safet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verbal and written safety instructions whenever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safety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Responsibil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llow instructions everyday, all day, without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ad and double check all written safety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k questions when con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Safety Inform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science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ot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az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re advanced the class, the greater the possibility for safet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45268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rns &amp; Issues for OUR Cla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hazard w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mbol was created to draw attention to the need for saf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ome Ale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safety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lv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3152880" cy="358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ggle U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r goggles when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NEGOT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 LA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60640" cy="312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381880" cy="505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s that are taken to prevent or reduce the likelihood of a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se situations you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 back long h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 back loose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307120" y="3224160"/>
            <a:ext cx="3836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75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electricity can be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fo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409248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3:06:42Z</dcterms:created>
  <dc:creator>User</dc:creator>
  <dc:description/>
  <dc:language>en-US</dc:language>
  <cp:lastModifiedBy>Technology</cp:lastModifiedBy>
  <dcterms:modified xsi:type="dcterms:W3CDTF">2012-01-23T02:35:41Z</dcterms:modified>
  <cp:revision>36</cp:revision>
  <dc:subject/>
  <dc:title>Science Safety</dc:title>
</cp:coreProperties>
</file>